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4AB-3263-4C14-93EF-E4622D16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621-A1CB-4375-8539-2CF43BC9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948-F474-4CB6-80B6-E5475A7C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E13-CFE8-4E08-B732-E8B61938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0DB-E4CA-4A60-9B0D-4EA48EA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74E-1D35-4EEA-B177-79CD9A43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D83-EE86-4B79-9EC2-AA26B15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A8A-220B-4C9F-8ED9-B84138A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F6D-DCDF-4FA1-AC01-92B44CE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303-28D6-4A47-BBF3-2F3B6A8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4D8-104C-4D93-974E-F1FBCE1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DE3-79F4-40BB-AFF7-BDC88C0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9D46-E3A5-47BB-9E6D-BB412EA29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jective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planation an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Identifying vs. Non-Identif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about if a listener or reader would be able to identify the noun without the adjectiv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31240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 is the man who works at the grocery stor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04920" y="4052880"/>
            <a:ext cx="853416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is essential (identifying) information.  Think about it as two senten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is a ma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works at the grocery stor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ithout the second sentence, you couldn’t identify him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ice that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becom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because the noun changes from indefinite to definite because of the identification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8" name="Picture 11" descr="professions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Identifying vs. Non-Identif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about if a listener or reader would be able to identify the noun without the adjectiv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04920" y="320040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, who works as a physician’s assistant, enjoys her job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4452840"/>
            <a:ext cx="8534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s is extra (non-identifying) information.  Think about it as two sentenc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 enjoys her job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ria works as a physician’s assista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know her name from the first sentence.  This is enough to identify her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3" name="Picture 6" descr="professions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an Adje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n Adjective describes a noun.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member nouns can either be subjects, objects or objects of prepos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19520" y="2362320"/>
            <a:ext cx="3429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words are adjectiv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ki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l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19520" y="2362320"/>
            <a:ext cx="3429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words are adjectiv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ki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l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5257800" y="2819520"/>
            <a:ext cx="3352680" cy="3504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5410080" y="3962520"/>
            <a:ext cx="838440" cy="1752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400800" y="5181480"/>
            <a:ext cx="990720" cy="838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371600" y="311616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447920" y="5334120"/>
            <a:ext cx="6094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an Adjective Cla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 Adjective clause is a dependent clause (dependent word + subject and verb) that describes a no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can imagine that an adjective clause is taking two sentences about the same noun and making them into on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3962520"/>
            <a:ext cx="7696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road goes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 that goes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962520"/>
            <a:ext cx="8839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shows a beautiful vista of the Grecian coastline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bought the postcard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which I bought shows a beautiful vista of the Grecian coastli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609480" y="3962520"/>
            <a:ext cx="8839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go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ute 66 is a long road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go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 Chicago to Californ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Subject Relative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use relative pronouns to create dependent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replaces the word in common between the two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metimes, the relative pronoun will be the subject of the 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2120" y="3962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ubject Relative Pronou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ople: Who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gs or Animals: Which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ssessive: Who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Oval 6"/>
          <p:cNvSpPr/>
          <p:nvPr/>
        </p:nvSpPr>
        <p:spPr>
          <a:xfrm>
            <a:off x="1143000" y="5105520"/>
            <a:ext cx="9907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09480" y="3962520"/>
            <a:ext cx="8839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postca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hows a beautiful vista of the Grecian coastline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bought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postca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ostcard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 bought shows a beautiful vista of the Grecian coastli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Object Relative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metimes, the relative pronoun will replace the object in the dependent clause or the object of a pre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connect this type of clause, the relative pronoun must be moved to the front of the clause – in front of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3962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bject Relative Pronou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ople: Whom, Who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gs or Animals: Which or Th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ssessive: Who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replaces the noun – don’t use it and the noun in the 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6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postcard is pretty. I bought the post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correct: The postcard which I bought the postcard is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rrect: The postcard which I bought is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relative pronoun must be next to the word it desc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6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correct: The sharks opened their mouths while they swam by the boat which were full of sharp tee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1280" indent="-5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rrect: The sharks opened their mouths which were full of sharp teeth while they swam by the b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l written English:  In formal, academic English in adjective clauses with object relative pronouns, for people, we 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 In adjective clauses with an object of a preposition, bring the preposition forward and us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7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Jack London, whom I admire, wrote a lot of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-59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her than: Jack London, who I admire, wrote a lot of short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960" indent="-7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The presidency is the position to which many politicians asp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7000" indent="-59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her than: The presidency is the position that many politicians aspire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must understand whether or not the dependent clause i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sential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formation 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tr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nformation in the understanding of the noun.  This impacts the meaning and the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ssential clauses are also call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ying or restrictiv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 We DO NOT use commas with these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tra clauses are also call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n-identifying or non-restrictiv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 WE MUST use commas with these clauses.  We cannot use the relative pronou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an you understand a difference between these two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y sister, who lives in Bel Air, has thre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y sister who lives in Bel Air has thre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1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which sentence is it clear that I have more than one sis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3581280"/>
            <a:ext cx="82296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at about between these two sentenc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looked in the refrigerator, and he threw away the food which was rotte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e looked in the refrigerator, and he threw away the food, which was rotte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which sentence is all of the food in the refrigerator  rotten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30:36Z</dcterms:created>
  <dc:creator>GerritJX</dc:creator>
  <dc:description/>
  <dc:language>en-US</dc:language>
  <cp:lastModifiedBy> </cp:lastModifiedBy>
  <dcterms:modified xsi:type="dcterms:W3CDTF">2010-05-11T21:13:02Z</dcterms:modified>
  <cp:revision>5</cp:revision>
  <dc:subject/>
  <dc:title>Adjective Clauses</dc:title>
</cp:coreProperties>
</file>